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DA93-D368-4519-85F4-749819703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1160" y="3826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F684-04F6-43F5-95CF-29F3608D9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624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A821-32F3-402B-A562-D601CF30A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7400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720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116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7400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6720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03B0-00D3-4631-98B1-6CDC4BE08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ECB0-8C17-4559-ABFB-76C9C611C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624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81160" y="3826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624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7400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6720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8116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7400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6720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7608-5DC6-4236-844C-A6EB72F22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ECB3-E444-4F06-A5EA-746C42535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0898-FF10-4212-86BD-1D0F0BD77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98DC-CD00-4978-A188-D0031AEC3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BEAC-7F82-4F15-A247-62646109D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624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6ABF-997C-4DB1-B1C4-E24B01BFC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6F5DC-DAFA-4838-B538-A3D376A08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ckgroundgreenre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6320" y="6457680"/>
            <a:ext cx="38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BBA6-E418-47D5-A80F-E6679C2B0C5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6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" name="Picture 7" descr="frameroundedcornergree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hinkexist.com/quotes/chinese_proverbs/" TargetMode="External"/><Relationship Id="rId2" Type="http://schemas.openxmlformats.org/officeDocument/2006/relationships/hyperlink" Target="http://thinkexist.com/quotes/chinese_proverbs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2045520" y="500040"/>
            <a:ext cx="47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Интегрисане академске студије стоматолог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324000" y="198900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МОДУЛ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9900"/>
                </a:solidFill>
                <a:latin typeface="Times New Roman"/>
              </a:rPr>
              <a:t>Основе вештине комуник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835280" y="3357720"/>
            <a:ext cx="5545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9900"/>
                </a:solidFill>
                <a:latin typeface="Times New Roman"/>
              </a:rPr>
              <a:t>2. наставна јединица (друга недеља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Вештина вербалне и писане комуникациј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346360" y="5997600"/>
            <a:ext cx="33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роф. др Мирјана Јованови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Пример за емпатичко слушање</a:t>
            </a:r>
            <a:r>
              <a:rPr b="1" lang="en-US" sz="3400" spc="-1" strike="noStrike">
                <a:solidFill>
                  <a:srgbClr val="333399"/>
                </a:solidFill>
                <a:latin typeface="Verdana"/>
              </a:rPr>
              <a:t> 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путу ка кући,оклизнули сте се и пали,при чему сте повредили леђа.Посетили сте свог докт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аш доктор не дели ваша осећањ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н не одбације нити се руга вашим осећањима,напротив,он их препознаје и третира ваше повреде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вде,нема “дељења” емоција,већ препознавања емоција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За ефикасну</a:t>
            </a:r>
            <a:r>
              <a:rPr b="1" lang="en-US" sz="3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Verdana"/>
              </a:rPr>
              <a:t>вербалну комуникацију</a:t>
            </a: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ба да развијемо своју способност емпатичког  слуш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 то радим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Пре свега,потребно  је да препознамо параметре који чине емпатичко слушање,када оцењујемо нечије вербалне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Параметри евалуације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6002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. Број речи у минут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Јасноћ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ако је “слушљив” &amp; и без дисторзиј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гово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начин исказивања мис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амилијарност са изразим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.разумевање појмова који се корис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уз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коришћење различитих пауза у гово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луентнос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способност  лаког изражав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Експресивнос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трансформација идеја у реч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адржа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 значање или суштина гов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Вежбе евалуације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Вежба у читању коју евалуира група студен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ушаоци ће евалуирати онога ко чита- по задатим парамет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 параметри могу се оценити највише оценом 10  изузев “садржаја” који може имати највише оцену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ратни резултат ( feedback) представља збир свих поена-тотални збир је 100 (макс. ск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Говор”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‘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Говорити’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‘говорити добро’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су две различите ствар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  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Будала може да прича,али мудар човек говори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 ~Ben Johnson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Боље је држати језик за зубима,и можда,бити сматран будалом,него отворити уста и разрешити недоумицу!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 ~Abraham Lincol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Речи које изаберете да би сте нешто рекли,важне су колико и одлука да говорите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 ~непознати ау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Verdana"/>
              </a:rPr>
              <a:t>Говор се састоји из два дела</a:t>
            </a: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“Шта рећи?”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“Како нешто рећи.”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2govornica.jpg"/>
          <p:cNvPicPr/>
          <p:nvPr/>
        </p:nvPicPr>
        <p:blipFill>
          <a:blip r:embed="rId1"/>
          <a:stretch/>
        </p:blipFill>
        <p:spPr>
          <a:xfrm>
            <a:off x="3124080" y="41911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1) </a:t>
            </a: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“Шта рећи?”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ој садржаја 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ви корак је “Brainstorming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ећи корак је изабрати формат презентације/складиштење инфо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нални корак је сама през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komunik crtež.bmp"/>
          <p:cNvPicPr/>
          <p:nvPr/>
        </p:nvPicPr>
        <p:blipFill>
          <a:blip r:embed="rId1"/>
          <a:stretch/>
        </p:blipFill>
        <p:spPr>
          <a:xfrm>
            <a:off x="3200400" y="4572000"/>
            <a:ext cx="2495520" cy="1838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Verdana"/>
              </a:rPr>
              <a:t>Браин Сторминг…</a:t>
            </a:r>
            <a:endParaRPr b="0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Индивидуални  Brainstorming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едставља енглески израз који означава процес настанка идеја и стављања идеја на папир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уштина је ставити на папир што више иде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о има две предности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Омогућава нецензурисани проток различитих иде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Подстиче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тратешку или компаративну евалуацију  идеј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.Када су на папиру,имате могућност рангирања својих идеја по важности и ефикасност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ожете компарирати своје идеје,супротставити их и на крају одабрати најбољ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тавити идеје заједно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ада када знамо о чему желимо да причамо,потребно је да запишемо идеје у облику који може да буде презентован други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требан нам је одговарајући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орма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уз чију помоћ можемо представити иде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о можемо назвати презентацијом или складиштењем идеј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Шта је потребно?</a:t>
            </a: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3920" indent="-223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ставимо следеће питање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Да ли заборављамо због нервозе или постајемо нервозни због заборављања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а продискутујемо …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пр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Шта ако треба да изговорите азбуку пред аудиторијумом?”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 ли постајете нервозни?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чигледно не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ЛИ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162560" cy="16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Вештина вербалне и писане комуникације</a:t>
            </a:r>
            <a:endParaRPr b="0" lang="en-US" sz="4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сто мислимо да имати добру комуникацију значи бити добар говорник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Зашто постајемо нервозни?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рвоза не изазива толико пуно заборавност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о што…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аборављање изазива нервоз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Један човек је закључио да је главни узрок Нервоз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управо “заборављање” или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Страх од заборављања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ругим речима, нећемо постати нервозни ако поуздано знамо да не можемо заборавити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За превенцију заборављања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обар систем складиштења подата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ли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обар повратни сист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обар систем складиштења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такође,олакшава слушаоцима разумевање идеја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истем складиштења 1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0800" y="1676520"/>
            <a:ext cx="331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0520" indent="-20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З…Увод,тело,закључак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Увод у тему или оно што желиш да каже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Тело-неколико идеја које подржавају  суштину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Закључак-крај са одговарајућим закључ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ontent Placeholder 4" descr="vodič.jpg"/>
          <p:cNvPicPr/>
          <p:nvPr/>
        </p:nvPicPr>
        <p:blipFill>
          <a:blip r:embed="rId1"/>
          <a:stretch/>
        </p:blipFill>
        <p:spPr>
          <a:xfrm>
            <a:off x="5362560" y="1676520"/>
            <a:ext cx="2562120" cy="3886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истем складиштења 2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Временски оквир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Пошни са Референцом /Податком и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рошлост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Настави 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еференцом /Податк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адашњост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јектуј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дућнос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а личним печат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истем складиштења  3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КДЗ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Шт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 Почети са Крајем/Закључком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Как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.Чиме подржавамо Закључак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Доказ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. Коришћењем примера/студије случаја/статист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Закључак С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 Надам се да сам успео да докажем ДА…..(користи закључак с почетка говор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кладиште  4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+ми , -ми, лични печа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Увод 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ми (предности/јаче стра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Настави 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ми (мане/слаб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Дај свој Лични печат заснован на евалуацији за и проти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Идем даље ка…. </a:t>
            </a:r>
            <a:r>
              <a:rPr b="1" lang="en-US" sz="3400" spc="-1" strike="noStrike">
                <a:solidFill>
                  <a:srgbClr val="333399"/>
                </a:solidFill>
                <a:latin typeface="Verdana"/>
              </a:rPr>
              <a:t>“Како треба говорити?”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0800" y="1676520"/>
            <a:ext cx="331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6080" indent="-226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Говори јасно,ако уопште говориш; урежи сваку реч пре него је пустиш да падне ”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Oliver Wendell Hol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Content Placeholder 4" descr="dete sa rukom.jpg"/>
          <p:cNvPicPr/>
          <p:nvPr/>
        </p:nvPicPr>
        <p:blipFill>
          <a:blip r:embed="rId1"/>
          <a:stretch/>
        </p:blipFill>
        <p:spPr>
          <a:xfrm>
            <a:off x="4995720" y="2862360"/>
            <a:ext cx="3157560" cy="2395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2) </a:t>
            </a: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“Како треба говорити”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80800" y="1371240"/>
            <a:ext cx="331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8000" indent="-198000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Водич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р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Јасно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у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милијарност са израз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луент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кспресив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Content Placeholder 6" descr="veština kom..bmp"/>
          <p:cNvPicPr/>
          <p:nvPr/>
        </p:nvPicPr>
        <p:blipFill>
          <a:blip r:embed="rId1"/>
          <a:stretch/>
        </p:blipFill>
        <p:spPr>
          <a:xfrm>
            <a:off x="4495680" y="1752480"/>
            <a:ext cx="4343400" cy="381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Брзина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.број речи изговорени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 мин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.док већина Индијаца изговори 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0 до 180 рп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њихове стране колеге изгово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 до 120 рп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поравање изговора (мањи број речи у јединици времан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први је корак ка бољем говорништв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Јасноћа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Јасно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слушљивос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без дистор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вор би требао да буде довољно 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с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 би допро до сваког слушаоца.Проценити акустику просториј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асноћа гласа може да се побољша и усаврши редовним вежбам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ofis tok.jpg"/>
          <p:cNvPicPr/>
          <p:nvPr/>
        </p:nvPicPr>
        <p:blipFill>
          <a:blip r:embed="rId1"/>
          <a:stretch/>
        </p:blipFill>
        <p:spPr>
          <a:xfrm>
            <a:off x="3219480" y="4267080"/>
            <a:ext cx="270504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Ми смо у праву…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и само  50% у праву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то што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бална комуникација има још јед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ђе веома важан део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ЛУШАЊЕ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ворити” + “Слушати” = “Вербална комуникација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Изговор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гов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к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ома је важан правилан изговор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стити  добар речник или радити са тренером на изговору речи и акц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govor.jpg"/>
          <p:cNvPicPr/>
          <p:nvPr/>
        </p:nvPicPr>
        <p:blipFill>
          <a:blip r:embed="rId1"/>
          <a:stretch/>
        </p:blipFill>
        <p:spPr>
          <a:xfrm>
            <a:off x="1752480" y="3581280"/>
            <a:ext cx="402912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Паузе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е…користи различите врсте па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тач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за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две та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узвич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знака пит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Content Placeholder 9" descr="komunik ofis.jpg"/>
          <p:cNvPicPr/>
          <p:nvPr/>
        </p:nvPicPr>
        <p:blipFill>
          <a:blip r:embed="rId1"/>
          <a:stretch/>
        </p:blipFill>
        <p:spPr>
          <a:xfrm>
            <a:off x="4876920" y="2209680"/>
            <a:ext cx="3022560" cy="286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Фамилијарност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милијарност...познавање значења речи које користи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ње нових реч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шћење познатих речи у новом контексту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умети контекст и ситуацију пре поновног читањ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jinjang.jpg"/>
          <p:cNvPicPr/>
          <p:nvPr/>
        </p:nvPicPr>
        <p:blipFill>
          <a:blip r:embed="rId1"/>
          <a:stretch/>
        </p:blipFill>
        <p:spPr>
          <a:xfrm>
            <a:off x="3124080" y="4267080"/>
            <a:ext cx="3505320" cy="2438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Флуентност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луентност…Способност  лаког изража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ој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луентност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 питање других параметара на свом мес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луентн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указује да је говорник успешно савладао способност јасног и исправног изражавања,укључујући и друге парамет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Експресија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кспресија…трансформација идеје у реч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о и спољашња манифестација расположења или распореда ре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кспрес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зличитих емоција изражених речима,тоном,убедљивошћу,висином тона и модула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mladi.jpg"/>
          <p:cNvPicPr/>
          <p:nvPr/>
        </p:nvPicPr>
        <p:blipFill>
          <a:blip r:embed="rId1"/>
          <a:stretch/>
        </p:blipFill>
        <p:spPr>
          <a:xfrm>
            <a:off x="3352680" y="3962520"/>
            <a:ext cx="261936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Хвала на пажњ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v.komunikacija1.bmp"/>
          <p:cNvPicPr/>
          <p:nvPr/>
        </p:nvPicPr>
        <p:blipFill>
          <a:blip r:embed="rId1"/>
          <a:stretch/>
        </p:blipFill>
        <p:spPr>
          <a:xfrm>
            <a:off x="3048120" y="1219320"/>
            <a:ext cx="2895480" cy="3281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СЛУШАЊЕ”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Већина успешних људи које познајем су они који више слушају него причају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. (Bernard M.Baru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cc99"/>
                </a:solidFill>
                <a:uFillTx/>
                <a:latin typeface="Arial"/>
              </a:rPr>
              <a:t>Слушати добро,моћан је извор утицаја на друге,као и говорити добро,и есенцијално је за сваку истинску комуникацију (Кинеска пословица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”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Ми имамо два ува и једна уста ,тако да можемо двоструко више да слушамо,него да причамо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Врсте слушања</a:t>
            </a: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39360" y="1752120"/>
            <a:ext cx="778212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ји неколико врста СЛУШАЊ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1.Слушање са захвалношћу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2.Емпатичко слушањ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3.Обимно слушањ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4.Критичко слушањ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5.Симпатетичко слушањ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У најширем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СЛУШАЊЕ МОЖЕ БИТИ КЛАСИФИКОВАНО КА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Симпатетичко слуш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Емпатичко слуш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megafon.jpg"/>
          <p:cNvPicPr/>
          <p:nvPr/>
        </p:nvPicPr>
        <p:blipFill>
          <a:blip r:embed="rId1"/>
          <a:stretch/>
        </p:blipFill>
        <p:spPr>
          <a:xfrm>
            <a:off x="5486400" y="2590920"/>
            <a:ext cx="3076560" cy="227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импатетичко слушање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симпатетичком слушању стало нам је до друге особе,при чему показујемо своје интересовање на тај начин што обраћамо пуну пажњу и изражавамо своју тугу када је саговорник тужан или срећу,уколико се саговорник раду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им речима-ради се о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дељењу”-”(sharing)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емо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devojke.jpg"/>
          <p:cNvPicPr/>
          <p:nvPr/>
        </p:nvPicPr>
        <p:blipFill>
          <a:blip r:embed="rId1"/>
          <a:stretch/>
        </p:blipFill>
        <p:spPr>
          <a:xfrm>
            <a:off x="3124080" y="44956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Пример симпатетичког слушања</a:t>
            </a: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уту ка кући,оклизнули сте се и пали,при чему сте повредили леђа.Кад сте ушли у кућу,ваши укућани с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саосећали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 в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су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поделили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аше осећање повређености па чак и “засузили оком”  ,да би показали своју саосећај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dete komunikacija.jpg"/>
          <p:cNvPicPr/>
          <p:nvPr/>
        </p:nvPicPr>
        <p:blipFill>
          <a:blip r:embed="rId1"/>
          <a:stretch/>
        </p:blipFill>
        <p:spPr>
          <a:xfrm>
            <a:off x="3581280" y="3962520"/>
            <a:ext cx="1781280" cy="257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Емпатичко слушање 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0760" indent="-23076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да слушамо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емпатичк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идемо иза симпатије, за дубљим разумевањем како се неко други осећ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о захтева изврсно разликовање  нијанси и  блиску пажњу када су у питању и назнаке емоционалних сигнала.Када смо заиста емпатични,ми у ствари препознајемо и потврђујемо шта та особа осећ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 намери да натерамо друге да изразе дубље делове себе пред нама,такође,треба да демонстрирамо емпатију  и то, сопственим понашањем  и пажљивим слушање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ажно је да наше понашање буде такво да охрабри особу да се отвори и изрази своје емоциј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nja</dc:creator>
  <dc:description/>
  <dc:language>en-US</dc:language>
  <cp:lastModifiedBy>Milanče Sin</cp:lastModifiedBy>
  <dcterms:modified xsi:type="dcterms:W3CDTF">2023-02-04T19:46:04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